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F06-E0F3-460F-94DB-737238E1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sób programowy – element logiki biznesowej, który przetwarza dane. Wykonuje on pożyteczną funkcję i jest udostępniony światu zewnętrzne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nża informatyczna zmierza w kierunku takiej architektury odkąd łączenie komputerów w sieć stało się t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zacja architektury kompozytow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ługi WWW dobrze wpisują się w ramy rozproszonej architektury usługowej. Każda z nich jest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dzielną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pisującą się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jednostką, która może stanowić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ładnik większego systemu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BLIKAC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ezpośredni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zamawiający dostaje opis od usługodawcy poprzez e-mail, FTP lub na dystrybucyjnym CD-ROMie. Zamawiający sam znajduje usługi i uzyskuje opis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żadanie HTTP typu GET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awiający pobiera opis od usługodawcy poprzez żadanie HTTP. Rejestr (publiczne repozytorium usług) odgrywa ograniczoną rol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dynamiczne odnajdywanie –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publiczny rejestr (np.. UDDI) do gromadzenia i udostępniania opisów usł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SZUKI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yteria wyszukiwania usłu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akość usług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- jak szybko odpowiada, jak dobre są jej wyn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lityka bezpieczeństwa usługodaw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bsługiwane protokoł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pologi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Jaki to rodzaj uslu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chanizm wyboru usługi alternatywnej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w przypadku gdyby żądana miała awarię (np. atak typu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enial of serv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PRZĘG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przęganie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awiający tworzy komunikat, który ma być wysłany do usługodawcy. Może w tym uczestniczyć reje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ługodawca – właściciel usługi. Od niego zależy m.in. sposób udostępnienia usługi. Dostarcza jej opis i implement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ker – pośrednik. Zarządza magazynami informacji dotyczących usługodawców i ich zasobó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ne firmy (nazwa, opis, kontakt) „białe stron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ne opisujące zasady dzialania, procesy itp., czyli informacje potrzebne do korzystania z usługi („zielone strony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ligentne wyszukiwanie – dane dotyczące klasyfikacji bądź topologii działania firmy („żółte strony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zywiście, każdy węzeł może pełnić więcej niż jedną rol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cześniejsze języki opisu interfejsu (CORBA, COM IDL, COM ODL) oczywiście nie współpracują ze sobą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ługi WWW rozwijają się bardzo dynamicznie i jeszcze nie są jednoznacznie zdefiniowane – każda firma przedstawiła swoją definicję; mówią one z grubsza to samo</a:t>
            </a:r>
            <a:r>
              <a:rPr b="0" lang="pl-P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koniecznie w Internecie!!!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ieci lok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jest wykorzystywany jako warstwa reprezentacji danych we wszystkich tworzonych protokołach i technologiach WWW, co pozwala na ich wszechstronna współpracę. Wykorzystanie XML w transporcie eliminuje przywiązanie do sieci,  systemu operacyjnego, czy platf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żytkownik usługi WWW nie jest od niej bezpośrednio zależny; Interfejs usługi może ulegać zmian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B i B2C wykorzystują różne technolog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C – przeglądarka internetowa, serwlety itp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B -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AP – standardowe opakowanie do transportowania dokumentów XML za pomocą różnych technik internetowych (SMTP, HTTP, FTP). Definiuje standardy kodowania i  wiązania do przesyłania nie-XMLowych elementów (np. wywołań zdal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DL – standard opisu interfejsów usług WW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DDI – umożliwia powstawanie obejmujących cały świat rejestrów, w których skatalogowane są usługi WW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 są najważniejsze technologie, które wspierają tworzenie usług WWW. Jednak żadna z nich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e jest konieczn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o utworzenia usług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8B2-0CE2-4C40-8E15-141F9B91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2CC-7AE9-4A45-BD9E-7B2CBD7C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3C3-1FD7-4ED6-8B92-C24A6BA5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F20-1999-4240-9775-5A476A47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FCAA-CCD7-4A95-88EA-C6F7A41F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AA2-F026-4903-A637-7F19ACC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5D9F-3C36-4A36-B2B4-D1EFC83B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35C-A0AC-47EB-AD14-30FB5A2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9D3D-07CD-4EC8-9FBD-DB8C488B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7ED-EF59-4105-AC4F-DBDB4EC4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7F7-B5C8-4431-9BE3-6E1B1B8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8F4-BC2A-4B1C-87FA-D1BA237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1522-76C9-42F0-BFED-6914E79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F480-5B35-4BF0-8F24-78DB37C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8F8D-CE1E-4ACA-8F60-12305D63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CFE4-EA87-4D61-9A58-7883A3E5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40EF-E0EF-4C6B-B0E5-95AF6B6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B66-9CA1-40F7-A3D3-C157E8C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95D-0307-47CB-8D9F-E890954B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8A9-BFCA-48F0-9267-EA20303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532-EDFC-42DF-B74A-35270639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F0C-D762-4761-8B3A-5EA427C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E22-A666-4A64-B6D1-7E0CD5A1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49F-7D0E-419F-8019-A914B26D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102-B507-4685-B57D-45384A3FE1E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CAA6-C2B5-4AB7-907C-E5C03EB3F09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alcentral.com/" TargetMode="External"/><Relationship Id="rId2" Type="http://schemas.openxmlformats.org/officeDocument/2006/relationships/hyperlink" Target="http://www.xmethods.com/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Usługi WWW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leksandra Mazu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aniel Łoposz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57340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rocław, 25/05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odel działania usługi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ys str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rchitektura kompozytow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ech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zproszone, oparte na odnajdywaniu środowisko wykonawc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stępnianie i zarządzanie usługowymi zasobami programowym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rchitektura kompozytowa</a:t>
            </a:r>
            <a:br>
              <a:rPr sz="3900"/>
            </a:b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- wymagan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ynamiczne odnajdywanie możliwości elementów logiki biznesowej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dzielenie opisu możliwości logiki biznesowej od jej implementacj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zybkie zestawianie improwizowanych zespołów przetwarzania dany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inimum koordynacji i procedur instalacyj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inimum interwencji człowie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rchitektura usługow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OA 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Service Oriented Architectur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ziecko IBM ur. we wrześniu 2000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dmioty architektury – usługi WWW, które składają się z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mplement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isu w X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78200" y="3006720"/>
            <a:ext cx="6265800" cy="3851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O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czestnicy interakcj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ługodawca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provid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ejestr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registry, brok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mawiający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requersto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perac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ubliku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szuka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wią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rotokół SO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Simple Object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 – Si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 wyrażone za pomocą gramatyki X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 wysyłane za pomocą protokołów HTTP, SM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magania SOAP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wysyłania i odbierania danych za pomocą http, sm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a kodowania MIME do zapisu i odtwarzania binarnych załącz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enie i odczytywanie dokumentów XML zgodne z zasadami kodowania i kopertowania, które definiuje SO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kowanie danych do kopert (Enve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 – Object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wa pochodzi od zdalnego wywoływania obiektów COM poprzez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obnie jak jego bliski kuzyn XML-RPC, protokół SOAP wyczerpująco opisuje zdalne wywoływania procedur RPC oraz metod Javy - R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 - Ac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gólna dostępność protokołów HTTP i SMTP (otwarte zapor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e są również wiązania z innymi protokołami (SOAP przez RMI lub J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 – Protocol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arty na języku XML protokół wymiany informacji w rozproszonym śr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 czym będziemy mówić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dea usług 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otokół SO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pis usług WWW (język WSD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szukiwanie usług WWW (rejestr UD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ezpieczeństwo i inne problemy związane    z usługami 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PurchaseOrder xmlns="urn:oreilly-jaws-samples"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shipTo country="US"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name&gt;Joe Smith&lt;/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street&gt;14 Oak Park&lt;/stree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city&gt;Bedford&lt;/cit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state&gt;MA&lt;/stat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zip&gt;01730&lt;/zip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shipTo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item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item partNum="872-AA"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productName&gt;Candy Canes&lt;/product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quantity&gt;444&lt;/quantit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price&gt;1.68&lt;/pri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comment&gt;I want candy!&lt;/commen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PurchaseOrd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d XML zostanie umieszczony w treści komunikatu SOAP (w obrębie &lt;Body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eść komunikatu SOAP zostanie umieszczona w kopercie SOAP (&lt;Envelop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wentualnie zostanie dołączony blok nagłówkowy komunikatu SOAP (&lt;Header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rowadzona zostanie deklaracja przestrzeni naz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awi się dyrektywa encodingStyle dotycząca serializacji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one zostanie wiązanie z jakimś protoko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 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operta SOAP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cznik XML obejmujący cały dokument SO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 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główek SOAP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iejsce na polecenia dla procesora SOAP. Wykorzystywane przez protokołu obudowujące SOAP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 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iązanie SOAP z protokołem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APAction = „urn:soaphttpclient-action-uri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tent-Type = text/html; charset=utf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tent-Length = 7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APAction  - Wymagany element wiązania z protokołem ht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Rola opisu usługi w SO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wiera wszystkie informacje potrzebne do wywołania usług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Format komunikatu wywołującego usług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dres, pod którym jest dostęp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możliwia automatyzację procesu powstawania kodu, który wywołuje usług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możliwia wyszukiwanie usług wg ich właściwośc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os opisu usług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7913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4880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ementacja usłu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3886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fejs usłu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9757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s punktu końc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2057400"/>
            <a:ext cx="2057400" cy="68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rojenie usł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FL / X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chemat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unkcjonalny opis  usług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XML – definicja typów elementów przekazywanych w komunikatach SO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mplementacja – adres usług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nterfejs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– jak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komunikat należy wysłać, aby wywołać usług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iefunkcjonalny opis  usług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laczego warto wywołać usługę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Endpoint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ady bezpieczeństwa po stronie usługodaw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ady bezpieczeństwa wymuszane przez usługodawc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trybuty jak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Flow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is aranżacji – miejsca usługi w procesie biznesowy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mieszcza usługę w szerszym kontekśc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S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Description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zwala opisać trzy fundamentalne właściwości usłu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robi usługa – opis jej operacji (metod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jak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można uzyskać dostęp do usługi – opis formatów danych i protokołów umożliwiających dostęp do jej operacj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gdzi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najduje się usługa – opis adresu sieciowego, specyficznego dla danego protokołu komunikacyjnego (na przykład adres UR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Idea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Model przetwarzania rozproszoneg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półpraca dowolnej liczby aplik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zarówno           w ramach poszczególnych organizacji, jak i pomiędzy ni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prac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zależ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d platform systemowych        i języków programow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spierany przez wszystkie fi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Bezproblemowa i płynna integracja usług na potrzeby biznesu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ogramowanie samo odnajduje najkorzystniejsze usługi, integruje je i dynamicznie wywołuje.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odel informacyjny WS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dzielenie abstrakcyjnych specyfikacji od konkretnych ich implementac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Opis węzła końcoweg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(abstrakcyjna specyfikacja interfejsu) jest reprezentowany w WSDL przez element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ortTyp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Mechanizm wiązani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(służy do odwzorowania abstrakcyjnej definicji usługi na jej określoną implementację) jest reprezentowany przez element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binding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Konkretny punkt końcowy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st reprezentowany przez element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port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jważniejsze elementy WS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rt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portTy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bstrakcyjna definicja interfejsu usługi sieciowej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kument WSDL zawiera zazwyczaj jeden element portTy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kłada się z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ów operatio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określających abstrakcyjne sygnatury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metod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ażdy z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ów operatio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może zawierać elementy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message (komunika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kreśla zbiór parametrów operacj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powiada jednemu z elementów potomnych elementu operation (input, output lub faul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kłada się z części (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y par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 par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opisuje jeden parametr (jego nazwę i typ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efinicje wszystkich typów danych wykorzystywanych w opisie usługi sieciowej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 tych typów odwołują się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y par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bin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osób przekształcania elementó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 abstrakcyjnej definicji interfejs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element portTy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 konkretną reprezentacj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określona kombinacja formatów danych oraz protokołó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kreśl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yl wywołania (RPC lub docu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 należy wstawić w nagłówku SOAP w miejscu soap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stać komunikatu wejściowego i wyjściow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zechowuje adres sieciowy węzła, w którym znajduje się usługa WWW (np. UR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wiera się w elemencie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defini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cierzysty element dokumentu WSD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wiera atrybut name odpowiadający zazwyczaj nazwie usługi sieciowej oraz deklaracje dotyczące przestrzeni nazw 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że zawierać inne elementy występujące   w dokumencie (types, message, portType, binding, servic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że zawierać element documentation oraz elementy import (umożliwia to łączenie dokumnetów WSDL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Rozmieszczenie informacji     w WSDL - podsumowa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robi usługa? – element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portTyp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wraz   z elementam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Jak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uzyskać dostęp do usługi? – element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Gdzie znajduje się usługa? –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y port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obre wiadomości ;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ie trzeba być specjalistą od WSDL żeby tworzyć usługi sieciow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ą narzędzia do generowania kodu WSDL na podstawie implementacji usługi (komponentów EJ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 WSDL można wygenerować aplikacje klienta, szkielet aplikacji serwera oraz plik deskryptora uruchomieniow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Co to jest usługa WW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 logiki biznesowej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umieszczony w sie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ostępny za pośrednictwem jednego ze standardowych protokołów (HTTP, SMT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sługa może być dowolnie złożona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proste logowanie się w witrynie lub pomoc              w prowadzeniu negocjacji handlow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echanizmy wyszukiwania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syłanie opisów usług bezpośrednio do odbior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dejście statycz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żyteczne jeśli kontakty handlowe są już nawiąza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niemożliwia zachowanie anonimow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korzystanie fizycznych nośników danych, FTP, czy SM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ło elastyczne – usługodawcy trudno jest powiadomić wszystkich zainteresowanych jeśli opis usługi ulegnie zmian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echanizmy wyszukiwania usług WWW (c.d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bieranie opisu usługi za pomocą operacji GET protokołu HTT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ublikacja usługi na stronie WW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związuje problemy z aktualizacją usług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pozytorium dokumentów WS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salcentra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xmethod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wiadomienia o zmianach w opisach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rzędzia do wyszukiwania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jestr UD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andard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Universal Description, Discovery and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el standardu UDDI – ułatwienie wyszukiwania usług sieci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fazie projektowan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ynamicznie – podczas dział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bejmuje rejestr firm, wraz z rejestrem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ruchomiony 02/05/2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eratorzy UDDI – firmy, które obsługują zreplikowane rejestry (IBM, Microsoft, Hewlett-Pack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ymagania dotyczące rejestru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ecyfikacja struktur danych dla metadanych przechowywanych w rejestr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ecyfikacja operacji CRUD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Create, Read, Update, Delet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ia dotyczące metadany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awo własności (do publikowanych dany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tegoryzacja (aby ułatwić organizowanie i wyszukiwan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echanizm odwołań do innych części rejest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ia dla operacj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utoryzowanie operacji Create, Update, 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warty dostęp dla operacji odczytu i wyszukiw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jważniejsze struktury danych w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jestr firm (businessEnt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białe – dane kontaktowe fi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żółte – informacje klasyfikujące rodzaje i umiejscowienie usług oferowanych przez fi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zielone – szczegółowe informacje o sposobie wywoływania oferowanych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jestr typów odwołań (t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dele technologiczne – abstrakcyjne, nadające się do wielokrotnego wykorzystania, definicje typów usłu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Interfejsy dla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PI publik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utoryzowany zbiór operacji, który pozwala organizacjom publikować informacje w rejest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magany jest znacznik autoryzac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tokół – HT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y z operatorów UDDI musi posiadać własny mechanizm autory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PI zapyta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bliczny zbiór operacji, który pozwala pobierać informacje z rejestr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ie wymaga autory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erfejs przeglądarki WWW do publik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PI dla UDDI - operac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229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datko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et_authToket, discard_auth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etRegisteredInfo – zwraca klucze businessEntity i tModel zrejestrowane przez użytkow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81080"/>
          <a:ext cx="8381880" cy="2590920"/>
        </p:xfrm>
        <a:graphic>
          <a:graphicData uri="http://schemas.openxmlformats.org/drawingml/2006/table">
            <a:tbl>
              <a:tblPr/>
              <a:tblGrid>
                <a:gridCol w="1874880"/>
                <a:gridCol w="1722240"/>
                <a:gridCol w="1571760"/>
                <a:gridCol w="1647720"/>
                <a:gridCol w="15652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ąz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isz / Aktualizu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b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 b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zuk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 b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ierz szczegó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business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service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 binding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Model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Bibliograf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. Graham, S.Simeonov, T. Boubez, D. Davis, G. Daniels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600" spc="-1" strike="noStrike">
                <a:solidFill>
                  <a:srgbClr val="330066"/>
                </a:solidFill>
                <a:latin typeface="Arial"/>
              </a:rPr>
              <a:t>„Java. Usługi WW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. A.Chappel, T.Jewell</a:t>
            </a:r>
            <a:br>
              <a:rPr sz="2600"/>
            </a:b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600" spc="-1" strike="noStrike">
                <a:solidFill>
                  <a:srgbClr val="330066"/>
                </a:solidFill>
                <a:latin typeface="Arial"/>
              </a:rPr>
              <a:t>„Java Web Servic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laczego usługi WW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ją możliwość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integracj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 partnerem biznesowym oraz łatwego odnajdywania nowych partneró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arte są 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twartych technologiac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XML i protokoły internetow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tandardac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konsorcjum W3C czuwa nad ich kształte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Luźno powiąza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del przetwarzania oparty na przekazywaniu komunikatów i ukierunkowany na wymianę dokument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lastyczne interfej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amiast sztywnego RPC – schemat dokumentu zdefiniowany przez interfejs usługi sieciowej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laczego usługi WWW? (c.d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zerszy zakres rozwiązywanych problemów niż dotychczasowe techn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, CORBA – architektury techniczne, które ze sobą oczywiście nie współpracuj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Technologie usług WWW są zaprojektowane pod kątem integracji aplik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spierają wcześniej wykorzystywane idee (np. RPC, synchroniczną i asynchroniczną komunikację), a przy tym oferują coś więcej, np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ekstowe, a więc niezależne od języka programowania, kodowanie dan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ożliwość weryfikacji, czy otrzymane dane są zgodne ze specyfikacją (XML Schem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szystkie wiodące firmy IT się nimi interesu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ykorzystanie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2B – pomiędzy firmam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integracja łańcucha dost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EAI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                     - w obrębie fi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ażne zwłaszcza jeśli powstała ona w wyniku fuzji kilku firm używających różnych systemów (formatów danych, protokołów komunikacyjnych itp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jektowanie nowych systemów na bazie usług WWW pozwoli stworzyć elastyczny model biznesow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2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are podejś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ogika aplikacji nie jest dobrze oddzielona od warstwy prezent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2964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Technologie umożliwiające współpracę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OAP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Simple Object Access Protocol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SDL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Description Languag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DDI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Universal Description, Discovery and Intergratio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5370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4:53:05Z</dcterms:created>
  <dc:creator>m</dc:creator>
  <dc:description/>
  <dc:language>en-US</dc:language>
  <cp:lastModifiedBy>DL</cp:lastModifiedBy>
  <dcterms:modified xsi:type="dcterms:W3CDTF">2005-05-25T08:01:15Z</dcterms:modified>
  <cp:revision>91</cp:revision>
  <dc:subject/>
  <dc:title>Web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